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9B1-82D3-4377-B230-6699F68E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D6F-A076-4DF8-9FFD-721F95B7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274-33F8-4C92-9B58-62DDD8B4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394-0BF0-4190-B8D8-1B488789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B520-837B-4DDE-B2D0-BE3D0B48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54E3-0D26-48E5-86C2-32DB0CBF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37D-FB10-49CF-88C4-751FA402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E24-490B-4617-A0E0-7C3A94D8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356-E487-4FB8-AB70-D8841736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5EB-B495-44FE-BE4D-221CDC36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7E94-D405-4B55-87A3-122BFE13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7A04-592D-4079-B887-9CC86D9E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55B0-4AD0-4C21-B313-950AA66B5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19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Poetry in Mo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Figurative Langu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8382240" cy="3405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Your tur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splat1%5B1%5D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583000" cy="1820880"/>
          </a:xfrm>
          <a:prstGeom prst="rect">
            <a:avLst/>
          </a:prstGeom>
          <a:ln w="0">
            <a:noFill/>
          </a:ln>
        </p:spPr>
      </p:pic>
      <p:pic>
        <p:nvPicPr>
          <p:cNvPr id="66" name="BOOM2" descr=""/>
          <p:cNvPicPr/>
          <p:nvPr/>
        </p:nvPicPr>
        <p:blipFill>
          <a:blip r:embed="rId2"/>
          <a:stretch/>
        </p:blipFill>
        <p:spPr>
          <a:xfrm>
            <a:off x="5638680" y="12952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ll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n two or more words in a poem begin with the same consonant letter or soun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bbit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ed over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bbi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ces like a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int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ffod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ughing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on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ok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ft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daffodil_02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105732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n YOU spot alliteration in these senten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lly took the subway to the store to stock up on salmon and sal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vis took his trumpet to Tuesday’s talent sh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ndy might marry Marvin if he moves out of his mother’s mobile h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46483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gures of Speech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 meant to be taken literally, or exactly as they are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an more than what is said on the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lp us see things differently and in unusual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d very often in poetry to create different im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res two unlike things using the words, “like” and “a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snow was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thick as a blan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ew baby was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delicate as a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gres ar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lik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nions. . .[They] hav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yers” (Shrek, 200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shrek1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1938240" cy="232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ow you try to write simil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snow was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like a blanket on the cold ea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fe is  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y best friend is 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er eyes are 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tap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res two unlike things by saying that on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the 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n use various form of verb “to be” (am, is, was, are, were, be, being, been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amples: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world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your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am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n ang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hungry students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wer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pig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umblr_m912c0sV8p1re1sweo1_400" descr=""/>
          <p:cNvPicPr/>
          <p:nvPr/>
        </p:nvPicPr>
        <p:blipFill>
          <a:blip r:embed="rId1"/>
          <a:stretch/>
        </p:blipFill>
        <p:spPr>
          <a:xfrm>
            <a:off x="762120" y="4648320"/>
            <a:ext cx="2311200" cy="1906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et’s see how you d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s smile wa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unshine on a gloom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food 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children  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y friends 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erson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iving human traits to animals, objects, or ide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tornado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ace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through the t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thunder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grumble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like an old m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popcor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leap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ut of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6a00d8341bf7f753ef00e5507453448833-800wi" descr=""/>
          <p:cNvPicPr/>
          <p:nvPr/>
        </p:nvPicPr>
        <p:blipFill>
          <a:blip r:embed="rId1"/>
          <a:stretch/>
        </p:blipFill>
        <p:spPr>
          <a:xfrm>
            <a:off x="7086600" y="4648320"/>
            <a:ext cx="1766880" cy="1896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reate your own examples of personifica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leaf ____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r hair 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snowflake 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nomatopoe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rds that sound the same as the objects or actions they are describ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y cousi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lurp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he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lksh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basketb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woosh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rough the 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baco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izzl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ying 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2743200" cy="3741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0:44:05Z</dcterms:created>
  <dc:creator>Jodi McKinney</dc:creator>
  <dc:description/>
  <dc:language>en-US</dc:language>
  <cp:lastModifiedBy>Beastmaster</cp:lastModifiedBy>
  <dcterms:modified xsi:type="dcterms:W3CDTF">2012-10-23T01:07:40Z</dcterms:modified>
  <cp:revision>13</cp:revision>
  <dc:subject/>
  <dc:title>Poetry in Motion</dc:title>
</cp:coreProperties>
</file>